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DAE4E-8E06-4FF7-9BB2-C93CD9BA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B82C5-0319-411B-B32B-FB798AF8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CD590-5892-47FF-92DE-5A83AA4F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70BB8-0486-4F0A-B906-903D428F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D235-CDAB-4F1E-AFB8-8C0D363B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EDEC-E9ED-4F7B-B995-90A0C579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9573-9109-4B61-9D88-FA86812C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44B3-AF36-4D57-A317-0253DC07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4FE3-130A-42A9-81A8-209225AC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6AC8-A627-45FD-9305-F5416BF7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B43F-1F5B-4A72-A209-E9E36361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8B29A-0D3A-44AD-81D2-B33FBA1E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AAEE-8954-4865-B4AD-C711CD75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7D9A-7132-44B0-95B1-A403B188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819B-4CD2-4843-A51F-60739739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91FE-3318-4983-8723-460BB9C2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0B53-98F5-4A6F-A80A-DA26EDBF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BC981-0ED8-4E1A-B767-21629ABA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F028C-4133-4645-AA70-8F2298B7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A6C1F-A007-440A-BA1D-7163A09D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69A7E-D862-4C50-909C-2536EFD2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4669E-AAD8-4523-890E-89E3BBAD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46A15-5012-4C41-B010-ED813C2C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DE941-6729-4FD3-8861-603E3333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CC3E-488D-49E8-8A82-409F086D60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/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F5E8-9761-47EF-BF5B-D0D430AA76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Arial"/>
              </a:rPr>
              <a:t>Fundamentos de Criptografía</a:t>
            </a:r>
            <a:br>
              <a:rPr sz="4600"/>
            </a:br>
            <a:r>
              <a:rPr b="0" lang="es-CL" sz="4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3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s-CL" sz="3300" spc="-1" strike="noStrike">
                <a:solidFill>
                  <a:srgbClr val="ffffff"/>
                </a:solidFill>
                <a:latin typeface="Arial"/>
              </a:rPr>
              <a:t>Aspectos de Complejidad Computaciona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Horacio González 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24 de Octubre de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80B4-2A91-4051-A230-29E62DD37DE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unciones </a:t>
            </a: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one-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finició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una función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{0,1}*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{0,1}* es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one-wa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rección fácil: existe un algoritmo eficiente para con una entrada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retornar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rección difícil: dado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), donde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se elige uniformemente, es impracticable encontrar, con una alta probabilidad, una preimagen de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recha de complejida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6D304-7AF4-49B1-9285-8185DAE02C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unciones </a:t>
            </a: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one-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unciones no invertibles en sentido computacional, no matemá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 sistema criptográfico seguro ante ataques de mensaje conocido, puede producir una función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one-wa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C4CF9-0E96-4FC0-824D-9B85F1C04C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unciones </a:t>
            </a:r>
            <a:r>
              <a:rPr b="0" i="1" lang="es-CL" sz="4000" spc="-1" strike="noStrike">
                <a:solidFill>
                  <a:srgbClr val="000000"/>
                </a:solidFill>
                <a:latin typeface="Arial"/>
              </a:rPr>
              <a:t>one-way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con </a:t>
            </a:r>
            <a:r>
              <a:rPr b="0" i="1" lang="es-CL" sz="4000" spc="-1" strike="noStrike">
                <a:solidFill>
                  <a:srgbClr val="000000"/>
                </a:solidFill>
                <a:latin typeface="Arial"/>
              </a:rPr>
              <a:t>trapdo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 caso especial de funciones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one-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a función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one-wa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se dice con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trapdoor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(“escotilla”), si conociendo el secreto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–la escotilla, la función es “fácil” en las dos direcciones. Es decir, es fácil obtener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F3B53-4C91-439F-A051-8E15C70DB9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unciones </a:t>
            </a:r>
            <a:r>
              <a:rPr b="0" i="1" lang="es-CL" sz="4000" spc="-1" strike="noStrike">
                <a:solidFill>
                  <a:srgbClr val="000000"/>
                </a:solidFill>
                <a:latin typeface="Arial"/>
              </a:rPr>
              <a:t>one-way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con </a:t>
            </a:r>
            <a:r>
              <a:rPr b="0" i="1" lang="es-CL" sz="4000" spc="-1" strike="noStrike">
                <a:solidFill>
                  <a:srgbClr val="000000"/>
                </a:solidFill>
                <a:latin typeface="Arial"/>
              </a:rPr>
              <a:t>trapdo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a función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one-wa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con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trapdoor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se puede usar para producir un sistema criptográfico de llave pública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31C7B-CEC0-4BBC-930A-0A1862BE98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seudo aleatorie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Quienquiera que considere métodos ariméticos para producir digitos aleatorios está, por supuesto, cometiendo un pecado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John von Newm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2F6D8-D415-42B3-8505-5508F64748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ecuencia pseudo alea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finició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una secuencia de bits es pseudo aleatoria si es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computacionalmente indistinguible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de una secuencia de bits de distribución unifor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50C68-41B5-4B71-9FCA-D98925FD2A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Generador pseudo aleato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finició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sea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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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tal que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) &gt;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. Un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generador pseudo aleatorio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con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función de estiramiento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, es un algoritmo eficiente (determinístico) el cual con una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semill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aleatoria de n-bits de entrada retorna una secuencia pseudo aleatoria de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)-b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981F3-437C-4D6D-8652-AAA5600A7F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enerador pseudo aleatorio: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edicado </a:t>
            </a:r>
            <a:r>
              <a:rPr b="0" i="1" lang="es-CL" sz="4000" spc="-1" strike="noStrike">
                <a:solidFill>
                  <a:srgbClr val="000000"/>
                </a:solidFill>
                <a:latin typeface="Arial"/>
              </a:rPr>
              <a:t>hard-c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finició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El predicado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es un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hard-core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de la función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si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es fácil de evaluar pero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) es difícil de predecir desde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decir, es impracticable, dado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), predecir mejor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) que con probabilidad 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“hereda concentradamente” la dificultad de invertir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E2D1B-94D0-4680-AD63-BF348321DA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enerador pseudo aleatorio: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l paradigma de la it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a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a función 1-1 que preserva el largo y es eficientemente computable, y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un predicado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hard-core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. Ento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un generador pseudo aleatorio (con función de estiramiento    ), d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209680" y="3352680"/>
                <a:ext cx="38102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ℓ</m:t>
                        </m:r>
                        <m:r>
                          <m:t xml:space="preserve">(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572000" y="4267080"/>
                <a:ext cx="372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590920" y="4962600"/>
                <a:ext cx="3352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def</m:t>
                        </m:r>
                      </m:lim>
                    </m:limUpp>
                    <m:r>
                      <m:t xml:space="preserve">f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def</m:t>
                        </m:r>
                      </m:lim>
                    </m:limUpp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11F06-6377-4D5E-99F0-9299A27FD6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Generador pseudo aleato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ultado de credibilidad aparente: los generadores pseudo aleatorios existen ssi existen las funciones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one-wa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blema abierto, permitiría crear generadores pseudo aleatorios desde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cualquier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función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one-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98406-1953-4FB7-A1BA-22988BF388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ermin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27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Sende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Remitente)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Receive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Receptor)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laintext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mensaje) P ó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Ciphertext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texto cifrado)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Encryption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cifrado) E(M)=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Decryption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decodificación o descifrado) D(C)=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38080" y="5410080"/>
            <a:ext cx="7239240" cy="457200"/>
            <a:chOff x="838080" y="5410080"/>
            <a:chExt cx="7239240" cy="457200"/>
          </a:xfrm>
        </p:grpSpPr>
        <p:sp>
          <p:nvSpPr>
            <p:cNvPr id="111" name=""/>
            <p:cNvSpPr/>
            <p:nvPr/>
          </p:nvSpPr>
          <p:spPr>
            <a:xfrm>
              <a:off x="2209680" y="5410080"/>
              <a:ext cx="1447920" cy="4572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Cifr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57800" y="5410080"/>
              <a:ext cx="1447920" cy="4572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Descifr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8080" y="56386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7600" y="56386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05720" y="56386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825120" y="52941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ns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20240" y="529416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xto cif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68720" y="52941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ns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410080"/>
            <a:ext cx="533160" cy="533520"/>
          </a:xfrm>
          <a:prstGeom prst="ellipse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077320" y="5334120"/>
            <a:ext cx="533160" cy="533160"/>
          </a:xfrm>
          <a:prstGeom prst="ellipse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18800" y="597996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)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C40F7-11BC-43B9-BD65-8201BEF5E3F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ero-conocimiento (</a:t>
            </a:r>
            <a:r>
              <a:rPr b="0" i="1" lang="es-CL" sz="4000" spc="-1" strike="noStrike">
                <a:solidFill>
                  <a:srgbClr val="000000"/>
                </a:solidFill>
                <a:latin typeface="Arial"/>
              </a:rPr>
              <a:t>zero-knowledge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dea: mediante un proceso interactivo y aleatorio, demostrar que se tiene cierto conocimiento sin entregar ninguna parte de ese conoci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tocolo repetitivo entre 2 partes: un verificador y un demostrador. La demostración debe permitir al demostrador convencer al verificador de cualquier hecho verídico, mientras que ninguna estrategia que tome le permitirá engañarlo a aceptar hechos fal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532A3-8027-45A7-9B11-CB50529AD9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ero-conoc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ultado general de credibilidad aparente: hay demostraciones de cero-conocimiento y eficientes para la pertenencia en cualquier lenguaje N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=&gt; Herramienta poderosa para diseñar esquemas y protocolos criptográf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F23C2-CD24-4138-B652-BC8DCBA8DA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lases de complej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dificultad criptoanalítica de un sistema cuyas operaciones de cifrado y descifrado están en P no puede ser mayor que N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 todos los problemas en NP sirven para propósitos criptográficos. Peor caso v/s caso esperado o prome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problema criptoanalítico general es NP-compl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C8822-E08C-481F-B7EC-DC115F8373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s: funciones one-way útiles en criptograf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actor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ltiplicar números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ctorizarlos 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jor algoritmo que se conoce (GNF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o. Ejecución heurístic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(1.923+ 0(1))(ln (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))(1/3)(ln (ln (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)))(2/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garitmos discretos en campos fin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onenciación en módulo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étodo de Montgom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blema inverso (logaritmo discreto) 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lejidad equivalente a calcular factores pr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35179-293D-492D-88BE-43178F36E8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s: generador pseudo aleato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asado en exponenciación mod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09480" y="3352680"/>
                <a:ext cx="8077320" cy="19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rimos</m:t>
                        </m:r>
                        <m:r>
                          <m:t xml:space="preserve">≡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s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sb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sb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sb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ℓ</m:t>
                                </m:r>
                                <m:r>
                                  <m:t xml:space="preserve">(</m:t>
                                </m:r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D86FA-A2CB-40AA-9ACC-61C1B6F6E7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s: demostración de cero-conoci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lave privada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{1,…,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} (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producto de 2 primos secre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lave pública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tocolo de identific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mostrador elige aleatoriamente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{1,…,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} y envía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l verific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erificador elige aleatoriamente una prueb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{0,1}, y la envía al demost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mostrador responde con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s-C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erificador acepta ssi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s-C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mod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57864-0791-4842-B310-CA749E2A4D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s: 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gir aleatoriamente e tal que e y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1)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1) sean primos relativ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(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1)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1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7 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7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33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1)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1) = 46 * 70 = 32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79 ale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7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3220 = 101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8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8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7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3337 = 1570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0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3337 = 688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6074280"/>
            <a:ext cx="883944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)(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)+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(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)(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1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(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D4E35-7012-4074-9C0B-9A9E0504103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finición de cript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udio de sistemas matemáticos que involucr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iva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utentif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tegr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rrefutabilidad (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nonrepudiatio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probl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unicación segura a través de canales inseguro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7B0A7-39AF-4D8D-8C55-0473648EE00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ás termin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goritmo criptográfico (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cipher, cryptosystem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lave o llave K (Ke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pacio de llaves </a:t>
            </a:r>
            <a:r>
              <a:rPr b="0" lang="es-C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{E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m)}, {D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c)} familias de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cip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goritmos simét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goritmos de clave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510B3-4704-4A6C-91E7-8D5DF398810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ás terminología aú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riptoanálisis (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cryptanalysi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taq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Ciphertext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ado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..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ducir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.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o un algoritmo para inferi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Known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ado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,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,...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ducir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: k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un algoritmo para inferi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Chosen plai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ado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,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,...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de el criptoanalista puede elejir lo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...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ducir: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k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un algoritmo para inferi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5E8BB-E8E0-4B9C-88CB-B3DFD7F2A50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Niveles de seguridad de los </a:t>
            </a:r>
            <a:r>
              <a:rPr b="0" i="1" lang="es-CL" sz="4000" spc="-1" strike="noStrike">
                <a:solidFill>
                  <a:srgbClr val="000000"/>
                </a:solidFill>
                <a:latin typeface="Arial"/>
              </a:rPr>
              <a:t>cip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condicionalmente segu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ne time 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utacionalmente segu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putacionalemente impracticable (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infeasible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pa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84B13-86F5-4F31-BCD3-90CAA914080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goritmos simét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iptografía convencion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seguridad depende de la l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blemas inherentes al manejo de llaves secr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4C01B-357D-4C58-A0C9-252E99A54E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goritmos de llave púb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aves distintas para cifrar y descifr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computacionalmente impracticable determinar la llave privada con la públ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pú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p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FA82C-7F67-4FE9-B1F7-4FBBA15E02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Herramienta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unciones “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One-Way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” (de un senti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seudo aleatorie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mostraciones de cero-cono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94867-0F4F-4E0C-A46F-8311084A77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20:07:07Z</dcterms:created>
  <dc:creator>Horacio González L.</dc:creator>
  <dc:description/>
  <dc:language>en-US</dc:language>
  <cp:lastModifiedBy>Horacio González L.</cp:lastModifiedBy>
  <dcterms:modified xsi:type="dcterms:W3CDTF">2002-10-24T15:31:33Z</dcterms:modified>
  <cp:revision>16</cp:revision>
  <dc:subject/>
  <dc:title>Fundamentos de Criptografía  Aspectos de Complejidad Computacional</dc:title>
</cp:coreProperties>
</file>